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6813-C0A2-4773-B648-E72D09725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DA90-9962-4FB9-94BC-E9B73DF7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4A89-5573-45D2-94CE-00EF798A7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BA31-EA44-441C-A3CA-854A2347A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1716-2214-423A-9F7E-5B266360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303C-75C0-44F5-B45C-DD51D63B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98EE-3651-4A87-83C1-8BB8BFAB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CC08-21B1-4BA2-8BFA-0F48CFA3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635B-2BBA-4EF9-AAA3-68D41FE2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73B2-F354-42DB-BC51-072C9168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2FB4-AE41-4809-84E5-CD288AD3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63DF-AC41-49C1-8EEE-F4FE8E3C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0B0E-C3F7-44F3-A8BF-02DB54C7B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920" y="1196640"/>
            <a:ext cx="5400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Mariajose</cp:lastModifiedBy>
  <dcterms:modified xsi:type="dcterms:W3CDTF">2010-04-09T20:40:13Z</dcterms:modified>
  <cp:revision>38</cp:revision>
  <dc:subject/>
  <dc:title>Texto</dc:title>
</cp:coreProperties>
</file>